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627-D17E-4ABE-9845-528581D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CAF-CC1A-485B-9CF3-B022062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620-17B7-4BC3-9F23-261F2816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652-2D2B-4039-A1C4-90C12666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B6E-416D-497E-8C20-8D8B5E4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74A-6F80-4858-8DD7-4D24C18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892-7329-4005-BD2D-CF9CF3F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931-D32B-4923-826E-3F1B4C8E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738-CB68-4067-BBEA-48153DF1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621-73C6-4B5E-ACD7-82D6ED7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208-8A2F-4B62-BB9B-4030547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A27-92D2-45AD-9D7F-0A88D59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4F30-38E7-4BA4-A64C-DA9736A3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24000" y="952560"/>
            <a:ext cx="8569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匆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通过优美语句感受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匆匆，一去不复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2859120" y="1720800"/>
            <a:ext cx="3141720" cy="2556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00040" y="3086280"/>
            <a:ext cx="4118040" cy="336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116000" y="10526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燕子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，有再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来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候；杨柳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，有再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青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候；桃花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谢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，有再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开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:\七彩课堂插图板式封面\排版用图标、页眉页脚\标题jpg\我们爱语文.jpg"/>
          <p:cNvPicPr/>
          <p:nvPr/>
        </p:nvPicPr>
        <p:blipFill>
          <a:blip r:embed="rId1"/>
          <a:stretch/>
        </p:blipFill>
        <p:spPr>
          <a:xfrm>
            <a:off x="5796000" y="4221000"/>
            <a:ext cx="278460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2492280"/>
            <a:ext cx="27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燕子可再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杨柳可再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花儿可再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43600" y="306864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逝去的日子不再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581280" y="3581280"/>
            <a:ext cx="2362320" cy="533520"/>
          </a:xfrm>
          <a:prstGeom prst="leftRightArrow">
            <a:avLst>
              <a:gd name="adj1" fmla="val 50000"/>
              <a:gd name="adj2" fmla="val 88146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038480" y="2743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2700360" y="549360"/>
            <a:ext cx="3024000" cy="1185840"/>
          </a:xfrm>
          <a:prstGeom prst="cloudCallout">
            <a:avLst>
              <a:gd name="adj1" fmla="val -73254"/>
              <a:gd name="adj2" fmla="val 113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排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拟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天黑时，我躺在床上，他便伶伶俐俐地从我身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过，从我脚边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:\七彩课堂插图板式封面\排版用图标、页眉页脚\标题jpg\我们爱语文.jpg"/>
          <p:cNvPicPr/>
          <p:nvPr/>
        </p:nvPicPr>
        <p:blipFill>
          <a:blip r:embed="rId1"/>
          <a:stretch/>
        </p:blipFill>
        <p:spPr>
          <a:xfrm>
            <a:off x="5651640" y="3860640"/>
            <a:ext cx="2784240" cy="233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F:\七彩课堂插图板式封面\排版用图标、页眉页脚\标题jpg\我们爱语文.jpg"/>
          <p:cNvPicPr/>
          <p:nvPr/>
        </p:nvPicPr>
        <p:blipFill>
          <a:blip r:embed="rId1"/>
          <a:stretch/>
        </p:blipFill>
        <p:spPr>
          <a:xfrm>
            <a:off x="5651640" y="4221000"/>
            <a:ext cx="2784240" cy="2335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默默里算着，八千多个日子已经从我手中溜去，像针尖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滴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滴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大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里，我的日子滴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时间的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里，没有声音，也没有影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304920"/>
            <a:ext cx="34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华文新魏"/>
                <a:ea typeface="华文新魏"/>
              </a:rPr>
              <a:t>八千多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581280" y="3049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华文新魏"/>
                <a:ea typeface="华文新魏"/>
              </a:rPr>
              <a:t>像针尖上一滴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7733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华文新魏"/>
                <a:ea typeface="华文新魏"/>
              </a:rPr>
              <a:t>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352680" y="17524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华文新魏"/>
                <a:ea typeface="华文新魏"/>
              </a:rPr>
              <a:t>流    大海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308720" y="54936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740720" y="10526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299736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表现了日子“溜去”的特点是：不知不觉，无影无声。显示出个人在宇宙面前多么渺小，人生多么短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7467480" y="2362320"/>
            <a:ext cx="920880" cy="3124080"/>
          </a:xfrm>
          <a:custGeom>
            <a:avLst/>
            <a:gdLst>
              <a:gd name="textAreaLeft" fmla="*/ 123120 w 920880"/>
              <a:gd name="textAreaRight" fmla="*/ 797760 w 920880"/>
              <a:gd name="textAreaTop" fmla="*/ 553320 h 3124080"/>
              <a:gd name="textAreaBottom" fmla="*/ 194616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3528389"/>
                <a:lnTo>
                  <a:pt x="4530" y="21430"/>
                </a:lnTo>
                <a:lnTo>
                  <a:pt x="0" y="16293"/>
                </a:lnTo>
                <a:lnTo>
                  <a:pt x="4530" y="10816"/>
                </a:lnTo>
                <a:lnTo>
                  <a:pt x="4530" y="15134"/>
                </a:lnTo>
                <a:arcTo wR="21600" hR="7652" stAng="3528389" swAng="-3369766"/>
                <a:lnTo>
                  <a:pt x="21419" y="8641"/>
                </a:lnTo>
                <a:arcTo wR="21600" hR="7652" stAng="-158623" swAng="-5241377"/>
                <a:close/>
              </a:path>
              <a:path fill="darkenLess"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-158623"/>
                <a:lnTo>
                  <a:pt x="21419" y="8641"/>
                </a:lnTo>
                <a:arcTo wR="21600" hR="7652" stAng="-158623" swAng="-5241377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132000" y="1125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匆匆，一去不复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珍惜时光，有所作为，切莫万事成蹉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上线条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下线条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500" autoRev="1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12:38:38Z</dcterms:created>
  <dc:creator>Yang</dc:creator>
  <dc:description/>
  <dc:language>en-US</dc:language>
  <cp:lastModifiedBy>sdth-jzy</cp:lastModifiedBy>
  <dcterms:modified xsi:type="dcterms:W3CDTF">2016-08-29T05:42:03Z</dcterms:modified>
  <cp:revision>20</cp:revision>
  <dc:subject/>
  <dc:title>幻灯片 1</dc:title>
</cp:coreProperties>
</file>